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86A-1982-4747-8D47-05D615B1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237E-12D3-4B04-87C0-3112E780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522-6D68-45F8-8838-8A0384FF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13DE-BB65-4464-978E-E6B7817C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8B04-CA47-44FE-8400-ADAD8186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9CA4-4BE9-4590-8804-C878702E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1E2C-83D5-4631-AC57-923E9AFD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FDD0-E466-4025-A361-99EE7BEE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D017-7FAE-48C3-B8FD-13053B34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CAF6-0765-4C01-84E9-3B7CF6D2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AF92-4A15-4478-9591-953AF94A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E0A-78D9-4E5F-8FB0-2E115116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6FA8-B58D-4440-966F-E81A4CDA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0E7E-84CC-4142-ADB4-13A39ACF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CD3C-3D3D-4BE9-8CE0-6E1B26F1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DD1A-BDA1-4552-939E-C660670A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69B8-F9A0-46AA-B69E-6683CA71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3FE-A866-47A0-B0B3-26DDB830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F1FB-B845-44EE-B1F1-8822143E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96A-B8C8-4B95-B596-5530216D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CB15-3A43-4C07-B5B9-9990C8F0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4E8-2D60-4618-A4D6-7B3C2308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66F-CA9F-4562-A845-999446C2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6C3-5DA9-4048-B2AC-520B9EEC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0B31-9D58-46D5-AE2F-1B7B67718B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99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2B7B-09AC-476B-AE0D-BB07A51C68B6}" type="slidenum">
              <a:rPr b="0" lang="ru-RU" sz="14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102280" y="19051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12"/>
          <p:cNvSpPr txBox="1"/>
          <p:nvPr/>
        </p:nvSpPr>
        <p:spPr>
          <a:xfrm>
            <a:off x="1181160" y="404640"/>
            <a:ext cx="796284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урение среди подростков.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2" name="Picture 14" descr="0_1877b_c57d20a2_XL"/>
          <p:cNvPicPr/>
          <p:nvPr/>
        </p:nvPicPr>
        <p:blipFill>
          <a:blip r:embed="rId1"/>
          <a:stretch/>
        </p:blipFill>
        <p:spPr>
          <a:xfrm>
            <a:off x="324000" y="2492280"/>
            <a:ext cx="8748720" cy="381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на сигаре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00360" y="1905120"/>
            <a:ext cx="40338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Каждые 10 секунд от последствий употребления табака на планете гибнет один человек (без учета так называемых «пассивных курильщиков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( Таков результат исследований Всемирной организации здравоохранения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www_druzi_ru_70_96_20060202_109[1]"/>
          <p:cNvPicPr/>
          <p:nvPr/>
        </p:nvPicPr>
        <p:blipFill>
          <a:blip r:embed="rId1"/>
          <a:stretch/>
        </p:blipFill>
        <p:spPr>
          <a:xfrm>
            <a:off x="324000" y="1989000"/>
            <a:ext cx="2903400" cy="390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768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768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4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урение и подрос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j0425487"/>
          <p:cNvPicPr/>
          <p:nvPr/>
        </p:nvPicPr>
        <p:blipFill>
          <a:blip r:embed="rId1"/>
          <a:stretch/>
        </p:blipFill>
        <p:spPr>
          <a:xfrm>
            <a:off x="1835280" y="1628640"/>
            <a:ext cx="5251320" cy="469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402920" y="980640"/>
            <a:ext cx="713124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ебенок - это не совсем копия взрослого по всем параметрам. У него еще находятся в стадии развития все системы и органы, имеет свои особенности и состояние обмена веществ в организме. Поэтому ребенок, подросток значительно чувствительнее, уязвимее к действию любых вредных веществ, в том числе и табачных ядов, чем взрослый человек.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 курящих детей в первую очередь изменяются функции центральной нервной и сердечно-сосудистой систем. Такие дети, прежде всего, становятся легко возбудимыми, вспыльчивыми, раздражительными, невнимательными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Постепенно развивается зависимость от табака, и если нет сигареты, появляется состояние дискомфорта в самочувствии, что выражается в виде беспокойства. Все мысли заняты тем, чтобы поскорее закурить. 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98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98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98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следствия курения у дет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азвивается малокров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Воспалительные процессы в носоглотк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худшение  слух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отеря памя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овышенная возбудимос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Нервозное состоя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6" descr=""/>
          <p:cNvPicPr/>
          <p:nvPr/>
        </p:nvPicPr>
        <p:blipFill>
          <a:blip r:embed="rId1"/>
          <a:stretch/>
        </p:blipFill>
        <p:spPr>
          <a:xfrm>
            <a:off x="262080" y="268200"/>
            <a:ext cx="8345520" cy="77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:\Documents and Settings\Yulja\Рабочий стол\ВИДЕО ДЛЯ ФИЛЬМА\ТАБАК\к.jpeg"/>
          <p:cNvPicPr/>
          <p:nvPr/>
        </p:nvPicPr>
        <p:blipFill>
          <a:blip r:embed="rId2"/>
          <a:stretch/>
        </p:blipFill>
        <p:spPr>
          <a:xfrm>
            <a:off x="3132000" y="1268280"/>
            <a:ext cx="2630520" cy="1646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cxnSp>
        <p:nvCxnSpPr>
          <p:cNvPr id="134" name="Прямая со стрелкой 9"/>
          <p:cNvCxnSpPr/>
          <p:nvPr/>
        </p:nvCxnSpPr>
        <p:spPr>
          <a:xfrm flipH="1">
            <a:off x="1618920" y="2923200"/>
            <a:ext cx="1535760" cy="8578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5" name="Прямая со стрелкой 11"/>
          <p:cNvCxnSpPr/>
          <p:nvPr/>
        </p:nvCxnSpPr>
        <p:spPr>
          <a:xfrm>
            <a:off x="5794920" y="2924280"/>
            <a:ext cx="857880" cy="1286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6" name="Rectangle 8"/>
          <p:cNvSpPr/>
          <p:nvPr/>
        </p:nvSpPr>
        <p:spPr>
          <a:xfrm>
            <a:off x="324000" y="3933720"/>
            <a:ext cx="338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емедикаментозное</a:t>
            </a: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9999ff"/>
                </a:solidFill>
                <a:latin typeface="Arial"/>
              </a:rPr>
              <a:t>-  психотерапия (рациональная, гипносуггестивная, эмоционально-стрессовая  и др.);</a:t>
            </a: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ccff"/>
                </a:solidFill>
                <a:latin typeface="Arial"/>
              </a:rPr>
              <a:t>-  рефлексотерапия  (игло-, КВЧ</a:t>
            </a: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-  </a:t>
            </a:r>
            <a:r>
              <a:rPr b="0" lang="ru-RU" sz="1800" spc="-1" strike="noStrike">
                <a:solidFill>
                  <a:srgbClr val="9999ff"/>
                </a:solidFill>
                <a:latin typeface="Arial"/>
              </a:rPr>
              <a:t>физиотерапия. </a:t>
            </a: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140360" y="3860640"/>
            <a:ext cx="467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Медикаментозное</a:t>
            </a: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9999ff"/>
                </a:solidFill>
                <a:latin typeface="Arial"/>
              </a:rPr>
              <a:t>- терапия отвращения</a:t>
            </a: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ccff"/>
                </a:solidFill>
                <a:latin typeface="Arial"/>
              </a:rPr>
              <a:t>- никотинозаместительное (Никиротте)</a:t>
            </a: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ccff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9999ff"/>
                </a:solidFill>
                <a:latin typeface="Arial"/>
              </a:rPr>
              <a:t>психотропные препараты </a:t>
            </a: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99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99ff"/>
                </a:solidFill>
                <a:latin typeface="Arial"/>
              </a:rPr>
              <a:t>(антидепрессанты, ноотропы,    </a:t>
            </a: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99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99ff"/>
                </a:solidFill>
                <a:latin typeface="Arial"/>
              </a:rPr>
              <a:t>транквилизаторы, нейролептики, </a:t>
            </a: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99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99ff"/>
                </a:solidFill>
                <a:latin typeface="Arial"/>
              </a:rPr>
              <a:t>снотворные и др.)</a:t>
            </a: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ccff"/>
                </a:solidFill>
                <a:latin typeface="Arial"/>
              </a:rPr>
              <a:t>- общеукрепляющее и </a:t>
            </a: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ccff"/>
                </a:solidFill>
                <a:latin typeface="Arial"/>
              </a:rPr>
              <a:t>симптоматическое (витамины, бронхолитики, иммуномодуляторы</a:t>
            </a: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абак – забава для дураков.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          Гёт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pokurim6"/>
          <p:cNvPicPr/>
          <p:nvPr/>
        </p:nvPicPr>
        <p:blipFill>
          <a:blip r:embed="rId1"/>
          <a:stretch/>
        </p:blipFill>
        <p:spPr>
          <a:xfrm>
            <a:off x="1979640" y="2637000"/>
            <a:ext cx="5400720" cy="3313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Курение приводит к большему количеству смертей, чем все немедицинские причины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435640" y="1905120"/>
            <a:ext cx="309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318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716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медицинские причи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бийст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убий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мобильные авар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равлен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жа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топл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50920" y="5877000"/>
            <a:ext cx="915840" cy="6508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5"/>
          <p:cNvGrpSpPr/>
          <p:nvPr/>
        </p:nvGrpSpPr>
        <p:grpSpPr>
          <a:xfrm>
            <a:off x="330120" y="2255760"/>
            <a:ext cx="4757760" cy="3764160"/>
            <a:chOff x="330120" y="2255760"/>
            <a:chExt cx="4757760" cy="3764160"/>
          </a:xfrm>
        </p:grpSpPr>
        <p:sp>
          <p:nvSpPr>
            <p:cNvPr id="97" name="Text Box 6"/>
            <p:cNvSpPr/>
            <p:nvPr/>
          </p:nvSpPr>
          <p:spPr>
            <a:xfrm>
              <a:off x="330120" y="2438280"/>
              <a:ext cx="1568520" cy="15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900" spc="-1" strike="noStrike">
                  <a:solidFill>
                    <a:srgbClr val="ff8000"/>
                  </a:solidFill>
                  <a:latin typeface="Arial"/>
                </a:rPr>
                <a:t>332</a:t>
              </a:r>
              <a:r>
                <a:rPr b="1" lang="ru-RU" sz="1900" spc="-1" strike="noStrike">
                  <a:solidFill>
                    <a:srgbClr val="ff8000"/>
                  </a:solidFill>
                  <a:latin typeface="Arial"/>
                </a:rPr>
                <a:t> </a:t>
              </a:r>
              <a:r>
                <a:rPr b="1" lang="en-AU" sz="1900" spc="-1" strike="noStrike">
                  <a:solidFill>
                    <a:srgbClr val="ff8000"/>
                  </a:solidFill>
                  <a:latin typeface="Arial"/>
                </a:rPr>
                <a:t>000</a:t>
              </a:r>
              <a:br>
                <a:rPr sz="1900"/>
              </a:br>
              <a:r>
                <a:rPr b="1" lang="ru-RU" sz="1900" spc="-1" strike="noStrike">
                  <a:solidFill>
                    <a:srgbClr val="ff8000"/>
                  </a:solidFill>
                  <a:latin typeface="Arial"/>
                </a:rPr>
                <a:t>курение</a:t>
              </a:r>
              <a:endParaRPr b="0" lang="en-US" sz="1900" spc="-1" strike="noStrike">
                <a:solidFill>
                  <a:srgbClr val="9999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9999ff"/>
                </a:solidFill>
                <a:latin typeface="Arial"/>
              </a:endParaRPr>
            </a:p>
          </p:txBody>
        </p:sp>
        <p:pic>
          <p:nvPicPr>
            <p:cNvPr id="98" name="Picture 7" descr=""/>
            <p:cNvPicPr/>
            <p:nvPr/>
          </p:nvPicPr>
          <p:blipFill>
            <a:blip r:embed="rId2"/>
            <a:stretch/>
          </p:blipFill>
          <p:spPr>
            <a:xfrm>
              <a:off x="1708200" y="2255760"/>
              <a:ext cx="3379680" cy="3764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Курение приводит к ежегодной смерти 332.000 человек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2269080" y="2421000"/>
            <a:ext cx="3837600" cy="3256560"/>
            <a:chOff x="2269080" y="2421000"/>
            <a:chExt cx="3837600" cy="3256560"/>
          </a:xfrm>
        </p:grpSpPr>
        <p:pic>
          <p:nvPicPr>
            <p:cNvPr id="101" name="Picture 5" descr=""/>
            <p:cNvPicPr/>
            <p:nvPr/>
          </p:nvPicPr>
          <p:blipFill>
            <a:blip r:embed="rId1"/>
            <a:stretch/>
          </p:blipFill>
          <p:spPr>
            <a:xfrm>
              <a:off x="3122280" y="2421000"/>
              <a:ext cx="298440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6"/>
            <p:cNvSpPr/>
            <p:nvPr/>
          </p:nvSpPr>
          <p:spPr>
            <a:xfrm>
              <a:off x="2269080" y="4973760"/>
              <a:ext cx="1044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000000"/>
                  </a:solidFill>
                  <a:latin typeface="Arial"/>
                </a:rPr>
                <a:t>39,000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ругие</a:t>
              </a:r>
              <a:endParaRPr b="0" lang="en-US" sz="2000" spc="-1" strike="noStrike">
                <a:solidFill>
                  <a:srgbClr val="9999ff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H="1">
              <a:off x="3401280" y="5303880"/>
              <a:ext cx="660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9999ff"/>
                </a:solidFill>
                <a:latin typeface="Arial"/>
              </a:endParaRPr>
            </a:p>
          </p:txBody>
        </p:sp>
      </p:grpSp>
      <p:sp>
        <p:nvSpPr>
          <p:cNvPr id="104" name="Rectangle 8"/>
          <p:cNvSpPr/>
          <p:nvPr/>
        </p:nvSpPr>
        <p:spPr>
          <a:xfrm>
            <a:off x="6227640" y="2697120"/>
            <a:ext cx="259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164,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езни системы кровообращения</a:t>
            </a: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езни сердца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сульт,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гие заболевания сосудов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2411280" y="263700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82,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468360" y="393372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47,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езни органов </a:t>
            </a: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ыхания</a:t>
            </a: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492360" y="5300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39,000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50920" y="190080"/>
            <a:ext cx="4608360" cy="410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99ff"/>
                </a:solidFill>
                <a:latin typeface="Arial"/>
              </a:rPr>
              <a:t>ТАБАКОКУРЕНИЕ, </a:t>
            </a:r>
            <a:br>
              <a:rPr sz="3800"/>
            </a:br>
            <a:r>
              <a:rPr b="0" lang="ru-RU" sz="3800" spc="-1" strike="noStrike">
                <a:solidFill>
                  <a:srgbClr val="9999ff"/>
                </a:solidFill>
                <a:latin typeface="Arial"/>
              </a:rPr>
              <a:t>как причина раковых заболеваний:</a:t>
            </a:r>
            <a:br>
              <a:rPr sz="3800"/>
            </a:br>
            <a:r>
              <a:rPr b="0" lang="ru-RU" sz="3800" spc="-1" strike="noStrike">
                <a:solidFill>
                  <a:srgbClr val="9999ff"/>
                </a:solidFill>
                <a:latin typeface="Arial"/>
              </a:rPr>
              <a:t>- 52,1 % мужчин</a:t>
            </a:r>
            <a:br>
              <a:rPr sz="3800"/>
            </a:br>
            <a:r>
              <a:rPr b="0" lang="ru-RU" sz="3800" spc="-1" strike="noStrike">
                <a:solidFill>
                  <a:srgbClr val="9999ff"/>
                </a:solidFill>
                <a:latin typeface="Arial"/>
              </a:rPr>
              <a:t>- 5,2 % женщин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5084640"/>
            <a:ext cx="81723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99ff"/>
                </a:solidFill>
                <a:latin typeface="Arial"/>
              </a:rPr>
              <a:t>ТАБАКОКУРЕНИЕ, как причина рост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9999ff"/>
                </a:solidFill>
                <a:latin typeface="Arial"/>
              </a:rPr>
              <a:t>заболеваемости раком легких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99ff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9999ff"/>
                </a:solidFill>
                <a:latin typeface="Arial"/>
              </a:rPr>
              <a:t>за последние 10 лет на 63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8" descr="legkie"/>
          <p:cNvPicPr/>
          <p:nvPr/>
        </p:nvPicPr>
        <p:blipFill>
          <a:blip r:embed="rId1"/>
          <a:stretch/>
        </p:blipFill>
        <p:spPr>
          <a:xfrm>
            <a:off x="0" y="765000"/>
            <a:ext cx="3780000" cy="3743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4952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9999ff"/>
                </a:solidFill>
                <a:latin typeface="Arial"/>
              </a:rPr>
              <a:t>ХИМИЧЕСКОЕ ВЕЩЕСТВО </a:t>
            </a:r>
            <a:r>
              <a:rPr b="1" lang="ru-RU" sz="1300" spc="-1" strike="noStrike">
                <a:solidFill>
                  <a:srgbClr val="9999ff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9999ff"/>
                </a:solidFill>
                <a:latin typeface="Arial"/>
              </a:rPr>
              <a:t>КОЛИЧЕСТВО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Угарный газ 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560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Смола 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312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Никотин 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67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Ацетальдегид 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2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Окись азота 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1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Изопрен 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15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Резорцин 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12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Ацетон 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12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Толуин 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6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Формальдегид 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5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Фенол 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4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Акролеин 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Бензин 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3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Пиридин 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3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1,3—бутадин 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Гидроквинон 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2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Метил этил кетон 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2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Катекол </a:t>
            </a:r>
            <a:r>
              <a:rPr b="0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Прямоугольник 2" descr=""/>
          <p:cNvPicPr/>
          <p:nvPr/>
        </p:nvPicPr>
        <p:blipFill>
          <a:blip r:embed="rId1"/>
          <a:stretch/>
        </p:blipFill>
        <p:spPr>
          <a:xfrm>
            <a:off x="1262160" y="476280"/>
            <a:ext cx="7669080" cy="1170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0a01506c02c1c49ba3842760c84e74f3"/>
          <p:cNvPicPr/>
          <p:nvPr/>
        </p:nvPicPr>
        <p:blipFill>
          <a:blip r:embed="rId2"/>
          <a:stretch/>
        </p:blipFill>
        <p:spPr>
          <a:xfrm>
            <a:off x="5105520" y="2349360"/>
            <a:ext cx="4038480" cy="360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98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98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98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98" fill="hold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98" fill="hold"/>
                                        <p:tgtEl>
                                          <p:spTgt spid="1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1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СТАДИИ ФОРМИРОВАНИЯ ТАБАЧНОЙ ЗАВИСИМОСТИ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ПИЗОДИЧЕСКИЙ ЭТАП КУРЕНИЯ </a:t>
            </a:r>
            <a:r>
              <a:rPr b="0" lang="ru-RU" sz="1800" spc="-1" strike="noStrike">
                <a:solidFill>
                  <a:srgbClr val="9999ff"/>
                </a:solidFill>
                <a:latin typeface="Arial"/>
              </a:rPr>
              <a:t>– количество выкуренных сигар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99ff"/>
                </a:solidFill>
                <a:latin typeface="Arial"/>
              </a:rPr>
              <a:t>не больше 5 штук за 7-10 дней. Предпочтения определенных марок сигарет  еще н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ИСТЕМАТИЧЕСКОЕ КУРЕНИЕ </a:t>
            </a:r>
            <a:r>
              <a:rPr b="1" lang="ru-RU" sz="1800" spc="-1" strike="noStrike">
                <a:solidFill>
                  <a:srgbClr val="9999ff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99ff"/>
                </a:solidFill>
                <a:latin typeface="Arial"/>
              </a:rPr>
              <a:t>ежедневно выкуривается от 2 до 6 сигарет. Формируется предпочтение к определенным сортам табака и маркам сигарет, хотя влечение к табаку еще отсутствует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 ста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99ff"/>
                </a:solidFill>
                <a:latin typeface="Arial"/>
              </a:rPr>
              <a:t>появляется влечение к табаку , человека тянет курить, при этом физическая зависимость отсутствует. При прекращении курения синдром отмены не развивается, возможен лишь небольшой психический дискомфорт. Толерантность растет. Продолжительность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99ff"/>
                </a:solidFill>
                <a:latin typeface="Arial"/>
              </a:rPr>
              <a:t>от 3 до 5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 ста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99ff"/>
                </a:solidFill>
                <a:latin typeface="Arial"/>
              </a:rPr>
              <a:t>в среднем1,5-3 пачки в день, часто ночью и утром натощак. Курение носит  характер навязчивого желания. Толерантность к никотину достигает апогея. Физическая зависимость в виде утреннего кашля, чувства дискомфорта, первых симптомов соматического неблагополучия в виде бронхита, заболеваний ЖКТ, ССС и т.д. Продолжительность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99ff"/>
                </a:solidFill>
                <a:latin typeface="Arial"/>
              </a:rPr>
              <a:t>от 5 до 15-20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 ста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9999ff"/>
                </a:solidFill>
                <a:latin typeface="Arial"/>
              </a:rPr>
              <a:t>толерантность к никотину падает. Высокие дозы вызывают дискомфорт. Острота психической зависимости снижается. Курение становится автоматическ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спространённость табакокуре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и детей и подростков в Казахста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rcRect l="0" t="0" r="0" b="6620"/>
          <a:stretch/>
        </p:blipFill>
        <p:spPr>
          <a:xfrm>
            <a:off x="900000" y="1968480"/>
            <a:ext cx="7920000" cy="488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уть сигаретного дым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280" y="1904760"/>
            <a:ext cx="441324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ервыми в контакт с табачным дымом вступают рот и носоглотк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ходя через слой табачной набивки, дым от тлеющего табака хотя и успевает охладиться, но не настолько, чтоб сравняться с температурой полости рт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ычно температура табачного дыма около 55—60°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6" descr="shutterstock_31285642"/>
          <p:cNvPicPr/>
          <p:nvPr/>
        </p:nvPicPr>
        <p:blipFill>
          <a:blip r:embed="rId1"/>
          <a:stretch/>
        </p:blipFill>
        <p:spPr>
          <a:xfrm>
            <a:off x="4788000" y="2060640"/>
            <a:ext cx="4356000" cy="396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3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15008090_img_2673084_169_0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5:24:14Z</dcterms:created>
  <dc:creator>марс</dc:creator>
  <dc:description/>
  <dc:language>en-US</dc:language>
  <cp:lastModifiedBy>Acer</cp:lastModifiedBy>
  <dcterms:modified xsi:type="dcterms:W3CDTF">2020-03-28T15:40:42Z</dcterms:modified>
  <cp:revision>10</cp:revision>
  <dc:subject/>
  <dc:title>Слайд 1</dc:title>
</cp:coreProperties>
</file>