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FE7-287F-4B76-8406-D9286E01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BE1-2D28-4D94-97D0-9EF18121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E5A-B64F-484E-813A-ECFC0117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F9D-2AAC-4C33-98DB-F1601629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5437-7AB4-4428-B437-38F86576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3C0D-FC31-48D0-8B03-9BAF3B6A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E1A2-979D-419F-A94D-D80E0813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619-9C5E-4491-8B87-565E063F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7243-D4DD-40EE-848E-6D28469D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70FA-909C-428A-A563-F73AAAC6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8436-C870-4AD6-8F5C-71E707E4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7AD-F16C-4506-90ED-0CEA8773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11AC-BEF7-455B-8D46-B2222A28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ED2B-016D-4188-B1DE-E1883B51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9FBC-6F8D-48D5-9BD1-A0716DA2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BBB4-8AF7-46C9-9BEB-611F982A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2AC1-1B45-473A-82ED-2C3513E9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21F-A7CC-48C4-AA3E-105263F1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2AE-1FA5-44BB-BECD-0EA03989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7A3-2D5B-4392-AD3F-944C5456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096-1750-42A7-8A57-5D91E21E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BFD-01A0-4025-A2A7-B5B0F96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975-03DB-495D-8D6D-3089375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66B-681C-4FE3-A310-1869E816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>
                  <a:gd name="textAreaLeft" fmla="*/ 0 w 8364600"/>
                  <a:gd name="textAreaRight" fmla="*/ 8364960 w 8364600"/>
                  <a:gd name="textAreaTop" fmla="*/ 0 h 4726080"/>
                  <a:gd name="textAreaBottom" fmla="*/ 4726440 h 4726080"/>
                </a:gdLst>
                <a:ahLst/>
                <a:rect l="textAreaLeft" t="textAreaTop" r="textAreaRight" b="textAreaBottom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>
                  <a:gd name="textAreaLeft" fmla="*/ 0 w 8364600"/>
                  <a:gd name="textAreaRight" fmla="*/ 8364960 w 8364600"/>
                  <a:gd name="textAreaTop" fmla="*/ 0 h 4726080"/>
                  <a:gd name="textAreaBottom" fmla="*/ 4726440 h 4726080"/>
                </a:gdLst>
                <a:ahLst/>
                <a:rect l="textAreaLeft" t="textAreaTop" r="textAreaRight" b="textAreaBottom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4421160"/>
                  <a:gd name="textAreaBottom" fmla="*/ 4421520 h 4421160"/>
                </a:gdLst>
                <a:ahLst/>
                <a:rect l="textAreaLeft" t="textAreaTop" r="textAreaRight" b="textAreaBottom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4421160"/>
                  <a:gd name="textAreaBottom" fmla="*/ 4421520 h 4421160"/>
                </a:gdLst>
                <a:ahLst/>
                <a:rect l="textAreaLeft" t="textAreaTop" r="textAreaRight" b="textAreaBottom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1144440"/>
                  <a:gd name="textAreaBottom" fmla="*/ 1144800 h 1144440"/>
                </a:gdLst>
                <a:ahLst/>
                <a:rect l="textAreaLeft" t="textAreaTop" r="textAreaRight" b="textAreaBottom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1144440"/>
                  <a:gd name="textAreaBottom" fmla="*/ 1144800 h 1144440"/>
                </a:gdLst>
                <a:ahLst/>
                <a:rect l="textAreaLeft" t="textAreaTop" r="textAreaRight" b="textAreaBottom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B008-75A2-4CA4-A9F3-D38383ECA7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>
                  <a:gd name="textAreaLeft" fmla="*/ 0 w 8370720"/>
                  <a:gd name="textAreaRight" fmla="*/ 8371080 w 8370720"/>
                  <a:gd name="textAreaTop" fmla="*/ 0 h 2211120"/>
                  <a:gd name="textAreaBottom" fmla="*/ 2211120 h 2211120"/>
                </a:gdLst>
                <a:ahLst/>
                <a:rect l="textAreaLeft" t="textAreaTop" r="textAreaRight" b="textAreaBottom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>
                  <a:gd name="textAreaLeft" fmla="*/ 0 w 8371080"/>
                  <a:gd name="textAreaRight" fmla="*/ 8371440 w 8371080"/>
                  <a:gd name="textAreaTop" fmla="*/ 0 h 2211120"/>
                  <a:gd name="textAreaBottom" fmla="*/ 2211120 h 2211120"/>
                </a:gdLst>
                <a:ahLst/>
                <a:rect l="textAreaLeft" t="textAreaTop" r="textAreaRight" b="textAreaBottom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>
                  <a:gd name="textAreaLeft" fmla="*/ 0 w 8383680"/>
                  <a:gd name="textAreaRight" fmla="*/ 8384040 w 83836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>
                  <a:gd name="textAreaLeft" fmla="*/ 0 w 8383680"/>
                  <a:gd name="textAreaRight" fmla="*/ 8384040 w 83836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52480"/>
                  <a:gd name="textAreaBottom" fmla="*/ 1752840 h 1752480"/>
                </a:gdLst>
                <a:ahLst/>
                <a:rect l="textAreaLeft" t="textAreaTop" r="textAreaRight" b="textAreaBottom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52480"/>
                  <a:gd name="textAreaBottom" fmla="*/ 1752840 h 1752480"/>
                </a:gdLst>
                <a:ahLst/>
                <a:rect l="textAreaLeft" t="textAreaTop" r="textAreaRight" b="textAreaBottom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ABEF-3342-43D9-A6A7-15D6B4D59D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"Профилактика вредных привычек у подростков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сновные группы токсин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914400" y="2362320"/>
            <a:ext cx="289548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429000" y="4038480"/>
            <a:ext cx="2743200" cy="9907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ксичные г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791320" y="2362320"/>
            <a:ext cx="27432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т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684360" y="3429000"/>
          <a:ext cx="2666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429000"/>
                    <a:ext cx="2666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12" descr="File0046"/>
          <p:cNvPicPr/>
          <p:nvPr/>
        </p:nvPicPr>
        <p:blipFill>
          <a:blip r:embed="rId3"/>
          <a:stretch/>
        </p:blipFill>
        <p:spPr>
          <a:xfrm>
            <a:off x="6300720" y="3429000"/>
            <a:ext cx="2514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татистические данные курения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табака среди школьник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18288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8,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ов не курили ни разу в жиз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8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опрошенных пробовали кури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2,8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урили более 20 раз в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286000" y="328464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0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ов курят ежедне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от одной и более сигарет в день 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граничиваются «эпизодическим» кур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одна сигарета не каждый день 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58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ов не кур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чение месяца  ни раз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Object 10" descr=""/>
          <p:cNvPicPr/>
          <p:nvPr/>
        </p:nvPicPr>
        <p:blipFill>
          <a:blip r:embed="rId1"/>
          <a:stretch/>
        </p:blipFill>
        <p:spPr>
          <a:xfrm>
            <a:off x="6948360" y="53341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2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0574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8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8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92504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Физическая зависимость от     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      таба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413160" y="1828800"/>
            <a:ext cx="534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абак приносит вред тел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азрушает разум, отупля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целые нац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. Де Бальз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85800" y="37339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Охота за возбуждающим действием никот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Курение как способ заполнить смысловые паузы в общ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Иллюзорная возможность «быть взрослым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овышенная внушае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Object 5" descr=""/>
          <p:cNvPicPr/>
          <p:nvPr/>
        </p:nvPicPr>
        <p:blipFill>
          <a:blip r:embed="rId1"/>
          <a:stretch/>
        </p:blipFill>
        <p:spPr>
          <a:xfrm>
            <a:off x="7238880" y="457200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6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2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88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6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84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308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олезни, связанные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         с курение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948360" y="3716280"/>
            <a:ext cx="1656000" cy="266544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5" descr=""/>
          <p:cNvPicPr/>
          <p:nvPr/>
        </p:nvPicPr>
        <p:blipFill>
          <a:blip r:embed="rId2"/>
          <a:stretch/>
        </p:blipFill>
        <p:spPr>
          <a:xfrm>
            <a:off x="1752480" y="4191120"/>
            <a:ext cx="2098800" cy="213336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3"/>
          <a:stretch/>
        </p:blipFill>
        <p:spPr>
          <a:xfrm>
            <a:off x="762120" y="1676520"/>
            <a:ext cx="2514600" cy="2200320"/>
          </a:xfrm>
          <a:prstGeom prst="rect">
            <a:avLst/>
          </a:prstGeom>
          <a:ln w="0">
            <a:noFill/>
          </a:ln>
        </p:spPr>
      </p:pic>
      <p:sp>
        <p:nvSpPr>
          <p:cNvPr id="130" name="Line 8"/>
          <p:cNvSpPr/>
          <p:nvPr/>
        </p:nvSpPr>
        <p:spPr>
          <a:xfrm flipH="1">
            <a:off x="3124080" y="1600200"/>
            <a:ext cx="32767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3504960" y="1600200"/>
            <a:ext cx="2895480" cy="312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6324480" y="1523880"/>
            <a:ext cx="838440" cy="3200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567240" y="2556000"/>
            <a:ext cx="13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онхи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физи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405680" y="423216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705720" y="17938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удка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-типерст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ш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2920" y="342720"/>
            <a:ext cx="6985080" cy="128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помочь человек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бросить кури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916360" y="1700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амятка для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3520" y="205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одители долж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и освободиться от кур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одители долж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очь ребенку отвлечься от привыч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Как? ( Игры, отдых на свежем воздухе, прогулки, беседы - все это способствует отказу от курения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е назидать, 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ивать своих де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тверждать, что  все получится, если человек чего-то хочет доби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бояться компании своего ребе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помогать и его друзьям бороться с соблазном кур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7" descr=""/>
          <p:cNvPicPr/>
          <p:nvPr/>
        </p:nvPicPr>
        <p:blipFill>
          <a:blip r:embed="rId1"/>
          <a:stretch/>
        </p:blipFill>
        <p:spPr>
          <a:xfrm>
            <a:off x="1979640" y="5013360"/>
            <a:ext cx="5184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39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мните!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абакокурение – знак беды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4:25:55Z</dcterms:created>
  <dc:creator>Nadya</dc:creator>
  <dc:description/>
  <dc:language>en-US</dc:language>
  <cp:lastModifiedBy>Ноутбук</cp:lastModifiedBy>
  <dcterms:modified xsi:type="dcterms:W3CDTF">2012-06-26T03:25:15Z</dcterms:modified>
  <cp:revision>12</cp:revision>
  <dc:subject/>
  <dc:title>Заголовок слайда отсутствует</dc:title>
</cp:coreProperties>
</file>