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38FE-4B0B-4C66-96FC-84FB7AFB0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43B3-C7D3-46D2-BC53-583623EF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EE5C-7D2E-4752-B127-79DC324F8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C874-50F9-4E7E-8840-58F7C47E5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63D7-FCDF-4BA3-8F05-069740BA5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DC63-F6CD-4B93-A9D0-A2DFAED8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E081D-B122-42E2-938D-468DA57E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796C-E399-4B9A-8462-341BCDA6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41C6-62DE-4E46-8EA8-E7B1F780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5A5C-F298-4917-9562-76FD5433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E32A-87A9-4D0B-9A8A-FA486897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953F-6B91-4116-B9AA-EBE68D76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9E1C-77B8-4296-94D0-98CC68C5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C1280-9D9A-40FB-8706-3DC2B6B4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B17BD-2EB6-4D76-8A4D-E3F6E4F7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7B72-0BC5-473E-B910-4D63BF39F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C9B6-4318-4C1F-853A-546068D65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044E-D3D1-47BB-ABF6-812B6B44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3B88-7865-48B5-A9D0-D007DE36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6A6F-E2AC-454A-9288-74229502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31D1-1F69-4792-BE17-1880B9CC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A89A-AEC2-4334-95C4-8BB284A4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604A-5BA4-44CD-9D72-A9F43E01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C2D1-3150-4CDB-A432-21CC0C6E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9319-498E-4581-9BA2-8024BF6101C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0BD1-3CA1-46DC-8D37-DA6AFB42E98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fin.kurgan.ru/files_jpg/molodej_pic(59514).jpg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Профилактика ВИЧ</a:t>
            </a:r>
            <a:br>
              <a:rPr sz="6000"/>
            </a:b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 в школьной среде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2895480" y="5486040"/>
            <a:ext cx="60962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Подготовила социальный педаго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Баймолдина С.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Picture 4" descr="C5"/>
          <p:cNvPicPr/>
          <p:nvPr/>
        </p:nvPicPr>
        <p:blipFill>
          <a:blip r:embed="rId1"/>
          <a:stretch/>
        </p:blipFill>
        <p:spPr>
          <a:xfrm rot="564000">
            <a:off x="3809520" y="228240"/>
            <a:ext cx="235296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7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Не отмечены случаи передачи ВИЧ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828440"/>
            <a:ext cx="854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и нормальных социальных контактах, например, при рукопожатии или совместных трапезах;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оздушно-капельным путём при чихании и кашле;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и укусах кровососущих насекомых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Tahoma"/>
              </a:rPr>
              <a:t>СИМПТОМЫ:</a:t>
            </a:r>
            <a:r>
              <a:rPr b="1" i="1" lang="ru-RU" sz="4000" spc="-1" strike="noStrike">
                <a:solidFill>
                  <a:srgbClr val="ff0066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066320"/>
            <a:ext cx="85406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илу своей природы СПИД не имеет собственного лица - специфической клинической картины и маскируется клиникой других заболеваний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сле заражения начинается бессимптомный инкубационных период, называемый "первичная ВИЧ инфекция"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 инфицировании могут свидетельствовать такие признаки как: </a:t>
            </a:r>
            <a:r>
              <a:rPr b="0" lang="ru-RU" sz="2800" spc="-1" strike="noStrike">
                <a:solidFill>
                  <a:srgbClr val="ff0066"/>
                </a:solidFill>
                <a:latin typeface="Tahoma"/>
              </a:rPr>
              <a:t>стойкое увеличение лимфозулов в разных частях тела, беспричинные поносы длящиеся более 7 дней, беспричинное похудание на 10 и более кг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00"/>
                </a:solidFill>
                <a:latin typeface="Tahoma"/>
              </a:rPr>
              <a:t>Можно ли убить возбудителя СПИДа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1447920"/>
            <a:ext cx="85406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0 -70 С спирт (несколько секунд)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падание в желудочно-кишечный тракт (разрушается пищеварительными ферментами и соляной кислотой)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ыстро погибает на воздухе и при нагревании 56 С в течение 30 минут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зинфицирующие вещества - хлорамин, хлорная известь (мгновенно)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ипячение (мгновенно)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попадании на кожу (через 20 мин. уничтожается ферментами бактерий, паразитирующих на коже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Обнаружить вирус в крови можно только сдав анализ крови на ВИЧ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0" name="Рисунок 3" descr="http://im1-tub-ru.yandex.net/i?id=612230164-08-72&amp;n=21"/>
          <p:cNvPicPr/>
          <p:nvPr/>
        </p:nvPicPr>
        <p:blipFill>
          <a:blip r:embed="rId1"/>
          <a:stretch/>
        </p:blipFill>
        <p:spPr>
          <a:xfrm>
            <a:off x="1066680" y="1905120"/>
            <a:ext cx="731520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Как уберечься от СПИДа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бегать случайных половых связей, а также половых контактов с гомосексуалистами, наркоманами и лицами, ведущими беспорядочную половую жизн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бегать употребления наркотиков или лекарственных веществ внутривенно с применением нестерильных шприцов и иг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пользовать индивидуальные средства защиты (презервативы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Профилактика ВИЧ среди школьников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4" name="Содержимое 2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839080" cy="51814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4" descr="http://images.google.com/images?q=tbn:-QGnmM7u-wBqdM:fin.kurgan.ru/files_jpg/molodej_pic(59514)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45160" y="2975040"/>
            <a:ext cx="290844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5" descr=""/>
          <p:cNvPicPr/>
          <p:nvPr/>
        </p:nvPicPr>
        <p:blipFill>
          <a:blip r:embed="rId1"/>
          <a:stretch/>
        </p:blipFill>
        <p:spPr>
          <a:xfrm>
            <a:off x="7772400" y="228600"/>
            <a:ext cx="1079640" cy="145908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Профилактика ВИЧ среди школьников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свещение подростков по вопросам СПИДа – лучший способ предотвращения этой болезни. </a:t>
            </a: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Необходимо давать ясную, правдивую информацию о том, как передается этот вирус, как он воздействует  на иммунную систему человека, какое влияние оказывает на жизнь каждого человека и на здоровье общества в целом, а также о путях распространения вируса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Ребята смогут сами принимать продуманные решения о том, как вести здоровый образ жиз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0" name="Picture 4" descr=""/>
          <p:cNvPicPr/>
          <p:nvPr/>
        </p:nvPicPr>
        <p:blipFill>
          <a:blip r:embed="rId1"/>
          <a:stretch/>
        </p:blipFill>
        <p:spPr>
          <a:xfrm>
            <a:off x="0" y="330120"/>
            <a:ext cx="9144000" cy="62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Что такое СПИД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варная болезнь, вызываемая ВИЧ. С социальной точки зрения СПИД – сложная проблема, которая касается человеческих взаимоотношений на любых уровнях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ббревиатура СПИД означает: </a:t>
            </a: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Синдром Приобретённого Иммунодефицит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2400" spc="-1" strike="noStrike">
                <a:solidFill>
                  <a:srgbClr val="ff0066"/>
                </a:solidFill>
                <a:latin typeface="Tahoma"/>
              </a:rPr>
              <a:t>Синдро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потому что существует большое количество признаков, симптомов, осложнений, связанных с заболеванием. </a:t>
            </a:r>
            <a:r>
              <a:rPr b="0" lang="ru-RU" sz="2400" spc="-1" strike="noStrike">
                <a:solidFill>
                  <a:srgbClr val="ff0066"/>
                </a:solidFill>
                <a:latin typeface="Tahoma"/>
              </a:rPr>
              <a:t>Приобретённый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заболевание не обусловлено генетической предрасположенностью, а приобретается специфическим образом. </a:t>
            </a:r>
            <a:r>
              <a:rPr b="0" lang="ru-RU" sz="2400" spc="-1" strike="noStrike">
                <a:solidFill>
                  <a:srgbClr val="ff0066"/>
                </a:solidFill>
                <a:latin typeface="Tahoma"/>
              </a:rPr>
              <a:t>Иммунодефицит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иммунная система подавляется и теряет способность сопротивляться различным инфекция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ким образом, </a:t>
            </a:r>
            <a:r>
              <a:rPr b="0" lang="ru-RU" sz="2400" spc="-1" strike="noStrike">
                <a:solidFill>
                  <a:srgbClr val="cc3300"/>
                </a:solidFill>
                <a:latin typeface="Tahoma"/>
              </a:rPr>
              <a:t>СПИД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не болезнь в собственном смысле этого слова, а ослабление или потеря организмом иммунитета и создание на этой почве благоприятных условий для развития какого-либо инфекционного заболева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301680" y="4038480"/>
            <a:ext cx="854064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ahoma"/>
              </a:rPr>
              <a:t>          </a:t>
            </a:r>
            <a:r>
              <a:rPr b="1" lang="ru-RU" sz="2800" spc="-1" strike="noStrike">
                <a:solidFill>
                  <a:srgbClr val="c00000"/>
                </a:solidFill>
                <a:latin typeface="Tahoma"/>
              </a:rPr>
              <a:t>СПИД - первая  глобальная эпидемия, которая своими размерами перекрывает все вместе взятые эпидемии, которые перенесло человечество на всём протяжении своего развития. Не зря же заболевание нарекли "Чумой XX века"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0" name="Рисунок 4" descr="http://portalik.flyfm.net/uploads/posts/2011-12/1322741788_world-aids-day-crosses1.jpg"/>
          <p:cNvPicPr/>
          <p:nvPr/>
        </p:nvPicPr>
        <p:blipFill>
          <a:blip r:embed="rId1"/>
          <a:stretch/>
        </p:blipFill>
        <p:spPr>
          <a:xfrm>
            <a:off x="1523880" y="228600"/>
            <a:ext cx="594360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Tahoma"/>
              </a:rPr>
              <a:t>История открытия вируса имунодефицита человек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ВИЧ – один из самых загадочных и трудных возбудителей в мире, который появился в ХХ ве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Впервые его открыли в 1983 году в Париже группой ученых, которую возглавил профессор Люк Монтанье. Возбудитель оказался вирусом, т. е. мельчайшим микроорганизмом, мельче чем микробы и был официально выделен от больных другой группой ученых во главе с Робертом Гало в США и впервые изучен, описан в 1987 году и официально признан, как возбудитель заболевания – вирус иммунодефицита человека (ВИЧ), по - английски обозначается буквам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HIV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05920" y="-3551400"/>
            <a:ext cx="536400" cy="80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228600"/>
            <a:ext cx="854064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ПИД – первая вирусная инфекция, распространившаяся по всему миру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979 – 1981 г.г. – врачи в Нью-Йорке и Лос-Анджелесе заметили необычные иммунные нарушения у ряда пациенток: рак кровеносных сосудов (саркома Капоши) и редкую форму пневмонии (пневмоцистная пневмония). Заболевание закончилось смертью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1982 г. Центры по контролю заболеваний ввели в реестр болезней новое заболевание – СПИД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983 г. – первые сведения о возбудителе болезни (фр. Л. Монтанье и ам. Р. Галло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984 г. – возбудитель выделен в чистой культуре, созданы тест-системы для его обнаружени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ahoma"/>
              </a:rPr>
              <a:t>1987 г. – в Советском Союзе официально объявлено о первом случае заболевания СПИДом мужчины, ранее работавшего переводчиком в одной из стран Африки (умер в 1992 г.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988 г. – охвачено 136 стран мира на всех континентах; число больных – 250 тыс. человек, ещё 5-10 млн. – носител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989 г. – в России заражается – 250 детей при переливании кров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пустя 10 лет – СПИДом охвачено уже 190 стра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00"/>
                </a:solidFill>
                <a:latin typeface="Tahoma"/>
              </a:rPr>
              <a:t>Природа вируса и механизм его действия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6" name="Picture 4" descr="img1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Tahoma"/>
              </a:rPr>
              <a:t>Стадии болезни СПИДа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ahoma"/>
              </a:rPr>
              <a:t>Заражение инфекцией ВИЧ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 недельная лихорадка, увеличение лимфатических узлов, сыпь. Через месяц в крови обнаруживаются антитела к ВИЧ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ahoma"/>
              </a:rPr>
              <a:t>Скрытый период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 от нескольких недель до нескольких лет. Изъязвления слизистой, грибковые поражения кожи, похудание, понос, повышенная температура тел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ahoma"/>
              </a:rPr>
              <a:t>СПИД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 воспаление легких, опухоли (саркома Капоши), сепсис и другие инфекционные заболева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1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и проявления болезни варьируют от нескольких дней до нескольких месяцев. Далее наступает бессимптомная фаза длительность её от 2 до 15 л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Признаки СПИД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228600" y="1600200"/>
          <a:ext cx="8610480" cy="4916520"/>
        </p:xfrm>
        <a:graphic>
          <a:graphicData uri="http://schemas.openxmlformats.org/drawingml/2006/table">
            <a:tbl>
              <a:tblPr/>
              <a:tblGrid>
                <a:gridCol w="2870280"/>
                <a:gridCol w="2870280"/>
                <a:gridCol w="2869920"/>
              </a:tblGrid>
              <a:tr h="823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блюдается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ражаются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блюдаются опухоли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9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величение лимфатических узл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повышение температур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появление потлив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расстройства кишечн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лихорад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похуд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воспаление легких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ж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глаз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желуд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кишечник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легк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центральная  нервная систе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кровь (сепсис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ж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головного мозг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Tahoma"/>
              </a:rPr>
              <a:t>Пути передачи ВИЧ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внутривенном употреблении наркотиков с использованием общего шприца или наркотиков, зараженных ВИЧ. Вероятность заражения в результате однократной инъекции 95%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переливаниях крови. Вероятность 95-96% Заражаются в массе своей люди, которым часто переливают кровь (гемофилики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использовании загрязнённых вирусом хирургических, гинекологических и других медицинских инструмент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пересадке органов и тканей от больных СПИДо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 матери к ребёнку во время беременности через плаценту и при кормлении грудью через молок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половом контакте при непостоянном половом партнёре (без использования презерватива); при гомосексуальных отношениях; при искусственном оплодотворен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сова С.Н.</dc:creator>
  <dc:description/>
  <dc:language>en-US</dc:language>
  <cp:lastModifiedBy>Acer</cp:lastModifiedBy>
  <dcterms:modified xsi:type="dcterms:W3CDTF">2020-12-20T10:40:53Z</dcterms:modified>
  <cp:revision>19</cp:revision>
  <dc:subject>Профилактика ВИЧ в школьной среде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